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FB33-996C-4A21-B5FA-2F307895B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691B-A7F1-45BF-852D-1D5814987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E7A6-ED95-4E31-8C02-78059F568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8216-60CB-4510-BEB4-0ED64A14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8D20-EE4C-4F87-ABA9-6B8C073B6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B3DE-D76A-47D7-8295-B823049CF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F458-5E91-4795-B6F8-A431F88A3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48E0-D74C-4708-8E3C-34DBF1BA8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4227-3205-4F9B-A932-AF2AED9AB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2DB0-8C5E-40DA-A280-B338FB739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0DCB-EEFE-4A42-A98D-4F61B6614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9659-C1B5-40A8-8B3D-55B15EBC6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4B60-D4D6-4DE8-B880-28DE33A0E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0F59-268C-4720-A001-C42662ADC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E37C-96FF-4943-B771-85E91227F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5F8E-53BC-4B0D-B2CB-ED931F3EC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AE19-4CD2-486A-9699-01A6AECB1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757E-70FA-4E11-89AE-A36C79A98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4D92-EF5A-4613-8F6D-97B9947BA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8205-D992-4F99-B019-EAB8690E7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3D2F-17AA-488E-BF90-A15719331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0145-A855-43C6-8D4C-57CFA5C0C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F61D-1FD9-47C7-9B84-F716E9249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33BE-C032-487E-BAA2-DA02CE733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DB4-C4F0-479B-9BA4-3A236098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4DE-F275-4B3D-93C7-05A9F692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2A4-7BF9-4581-ACFB-F6584D24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2B2D-B654-4041-8499-67D906A8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1966-B35F-4BB3-922C-9A49F6B6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769F-392B-4F48-BC2A-D06B2880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FFAA-2CE7-4590-9EB8-4D772D99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8E73-8C52-4598-9051-655F1AEA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CCB1-A160-4BCE-97F8-E7A28960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8F5C-D56E-47E9-9A55-0E05D036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C9B1-EDAC-4831-99BD-630E4B48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2CD-48EF-440F-99EC-E44F0809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4F02-2CB3-4655-8A24-D3703E49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1438-A905-48F6-91A9-839C5186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EDD6-C670-4A5F-B42A-E2D236E0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92A3-4C4D-40CB-B36B-CCB09FDF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D6F3-05F4-4F28-9D46-BB2895BF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3707E-8701-4D59-B557-313811A5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86B3D-E40B-4F87-9F04-CB18706A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E3E50-27C6-4FF0-9A7C-374BF9AE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71C1A-F7AB-4EA2-9702-AEDDD1F8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D714D-26BB-4ECC-B41A-257DCDA7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925-DAE5-44D8-A509-25E025A1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3E7DF-D2EE-452E-BDDC-53EE135A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C5C6-1231-4D2F-BAD5-6BDB6C76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8807C-AA43-42D7-935B-5390F2BB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F7FB3-8DA5-4ED4-B6AD-2A1D807C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8FBBC-4228-4DFE-9524-EC98E4A0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5FFFE-4141-462F-9DDD-D83FDE71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ADFFE-9E54-4DE6-85FF-466C9665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F9B-57B7-4E98-8217-F301C45F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9AF-EAEE-4BCE-8ABC-29231BEE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680-344F-4897-8684-57EB6274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1F3-97C0-4B31-83CA-E14DC5AA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294-C1F6-4989-A0D5-EC2804DA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3DD-12D4-4715-BCCF-0AD2E43C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A3E8-B05D-4E1B-AAB7-C4E9B9067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E7BD-374C-4A8C-A373-9805F222115F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E791-D35A-4EE3-B66D-A080DBD2CE1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399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which two cataracts on the Nile was Napata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B: It’s not on th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: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year were the Napatan kings forced ou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645  B: about 6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last year  D: about 7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5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apata a Nubian capital before or after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efo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n Women held a very high sta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49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ens of Nubia had very powerful figures in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ancient artwork B: the Nubian g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eyes of priests D: ancien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AutoShape 4"/>
          <p:cNvGrpSpPr/>
          <p:nvPr/>
        </p:nvGrpSpPr>
        <p:grpSpPr>
          <a:xfrm>
            <a:off x="7162920" y="304920"/>
            <a:ext cx="1311120" cy="853920"/>
            <a:chOff x="7162920" y="304920"/>
            <a:chExt cx="1311120" cy="853920"/>
          </a:xfrm>
        </p:grpSpPr>
        <p:pic>
          <p:nvPicPr>
            <p:cNvPr id="504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62920" y="30492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7169040" y="31104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 had many more women as rulers when compared to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r. Domyan B: Morgan’s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Egypt  D: Me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10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oyalty, who was most often next in line for the thr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iss Snow B: children of the ruler’s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ruler’s children D: Gw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16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 Box 8"/>
          <p:cNvSpPr/>
          <p:nvPr/>
        </p:nvSpPr>
        <p:spPr>
          <a:xfrm>
            <a:off x="838080" y="220896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Nubian queens’ weight reflect their wealth and r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If they were heavy then they had a lot of money to feed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It did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y could wear plus size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All women were plump at that time; queens had to have been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22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3"/>
          <p:cNvSpPr/>
          <p:nvPr/>
        </p:nvSpPr>
        <p:spPr>
          <a:xfrm>
            <a:off x="53352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roe Hieroglyphics remain an unsolved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2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ere the Meroe Hieroglyphics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Buried in the gro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On a motorcy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ombs and Temples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34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2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2"/>
          <p:cNvSpPr/>
          <p:nvPr/>
        </p:nvSpPr>
        <p:spPr>
          <a:xfrm>
            <a:off x="54864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14"/>
          <p:cNvSpPr/>
          <p:nvPr/>
        </p:nvSpPr>
        <p:spPr>
          <a:xfrm>
            <a:off x="54864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0"/>
          <p:cNvSpPr/>
          <p:nvPr/>
        </p:nvSpPr>
        <p:spPr>
          <a:xfrm>
            <a:off x="75438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1"/>
          <p:cNvSpPr/>
          <p:nvPr/>
        </p:nvSpPr>
        <p:spPr>
          <a:xfrm>
            <a:off x="75438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2"/>
          <p:cNvSpPr/>
          <p:nvPr/>
        </p:nvSpPr>
        <p:spPr>
          <a:xfrm>
            <a:off x="75438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3"/>
          <p:cNvSpPr/>
          <p:nvPr/>
        </p:nvSpPr>
        <p:spPr>
          <a:xfrm>
            <a:off x="7543800" y="51055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4"/>
          <p:cNvSpPr/>
          <p:nvPr/>
        </p:nvSpPr>
        <p:spPr>
          <a:xfrm>
            <a:off x="75438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0">
            <a:hlinkClick r:id="rId26" action="ppaction://hlinksldjump"/>
          </p:cNvPr>
          <p:cNvSpPr/>
          <p:nvPr/>
        </p:nvSpPr>
        <p:spPr>
          <a:xfrm>
            <a:off x="6858000" y="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012" h="21600">
                <a:moveTo>
                  <a:pt x="30005" y="10800"/>
                </a:moveTo>
                <a:lnTo>
                  <a:pt x="19500" y="17806"/>
                </a:lnTo>
                <a:lnTo>
                  <a:pt x="19500" y="3794"/>
                </a:lnTo>
                <a:close/>
              </a:path>
              <a:path fill="darken" w="53012" h="21600">
                <a:moveTo>
                  <a:pt x="31850" y="3794"/>
                </a:moveTo>
                <a:lnTo>
                  <a:pt x="31850" y="17806"/>
                </a:lnTo>
                <a:lnTo>
                  <a:pt x="33513" y="17806"/>
                </a:lnTo>
                <a:lnTo>
                  <a:pt x="33513" y="379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e created their Hieroglyphics based on Su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40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 Box 8"/>
          <p:cNvSpPr/>
          <p:nvPr/>
        </p:nvSpPr>
        <p:spPr>
          <a:xfrm>
            <a:off x="838080" y="17384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4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 flipV="1" rot="10800000">
            <a:off x="377640" y="1905120"/>
            <a:ext cx="8312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oitic script was used in the Kingdom of Kush, from the 2nd century BCE onwards until the 5th century 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2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ieroglyphic for 'a' was used only in the beginning of words (where a syllabic 'a' might occur)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9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Harrisbur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1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6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Rectangle 3"/>
          <p:cNvSpPr/>
          <p:nvPr/>
        </p:nvSpPr>
        <p:spPr>
          <a:xfrm>
            <a:off x="609480" y="30481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ABRAHAM LINCOL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1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.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7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Rectangle 3"/>
          <p:cNvSpPr/>
          <p:nvPr/>
        </p:nvSpPr>
        <p:spPr>
          <a:xfrm>
            <a:off x="609480" y="25909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You don’t bury survivors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83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The match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4572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Elephant"/>
              </a:rPr>
              <a:t>The End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60451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Elephant"/>
              </a:rPr>
              <a:t>We hope you enjoyed the game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295280" y="2057400"/>
            <a:ext cx="6705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organ and Gwy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9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4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t’s not on the Nile    B: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D: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68580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hickens  B: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ron ore  D: fox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iron ore deposits benefit the people of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y could make tools and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they made ores for their can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 didn’t benefit them  D: they made 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066680" y="609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roe people could control trade routes to ____________ with their weap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 local Walmart           B: the Red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the Mediterranean Sea  D: their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bian styles of pottery, jewelry, and furniture still exist in present-day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anada    B: Su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aly          D: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838080" y="22719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228600" y="1676520"/>
            <a:ext cx="85345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ountry did the Napatan kings r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Egypt B: The United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Africa D: The Land of Gwyneth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of Napata did not follow Egyptian tra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Mimi pacheco</cp:lastModifiedBy>
  <dcterms:modified xsi:type="dcterms:W3CDTF">2009-01-17T17:53:07Z</dcterms:modified>
  <cp:revision>20</cp:revision>
  <dc:subject/>
  <dc:title>Slide 1</dc:title>
</cp:coreProperties>
</file>